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FBDC80-9FA2-425F-A138-FC6DF5480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725-68CB-44F3-8596-5D487B73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219-F94D-4F28-9F91-D583330A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233-0054-4006-A9C9-E4F2523A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23E-FD6C-481B-B835-FC408D3D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6601-BA45-4C57-9A1D-868FCBB7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6BC2-438C-4EC7-9565-7676D629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7090-A1CE-48AB-B357-17B820EA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2490-33EF-41AC-ABED-6AA16142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DE6F-0F1C-4A7B-BD1D-CD352941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41F1-F9FB-4E6F-8431-C8DAAE14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1FBA-33D3-455D-B06C-1D860476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DCD-EFA1-489D-A6E7-2800ABEA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7D09-8763-4CF5-9D33-14DF870D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4060-9432-466A-8069-F410B602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6B77-60CA-420B-AD31-90525F80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B3EC-EBB8-4BD3-80EF-A1226DEA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D418-1A06-4501-8E79-69BB53A4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A82-016B-4717-9504-75F5D9FB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C20-0D0C-4437-BD84-AAEBB6F4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57D-AB06-4ECB-A353-D6E8750C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D7F-F102-4D6A-A5B1-4D5FF451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3FF-FE77-42DF-8017-E19983D2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4FC-6181-46B8-BEE5-F114D1D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867-B39A-4D51-BAE6-7BE3C51B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Group 3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3B31-F75E-4D4B-9849-CEA88EC1F8BA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Group 3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D28B-9AE7-4FF1-8792-0A2D6D21A808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90840" y="0"/>
            <a:ext cx="6089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share\101\images\dia_refrac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ractors (glass len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lectors (mirror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C:\share\101\images\dia_reflect.jpg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05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segrain refle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6" descr="_x0017_cassegrain-detailed.gif  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676520" y="2133720"/>
            <a:ext cx="5586120" cy="312264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dioptric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midtt-Cassegr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4" descr="_x0019_s-cassegrain-detailed.gif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523880" y="2133720"/>
            <a:ext cx="5853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earth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41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6280" y="586728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69276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share\101\galileo-portrait.jpg"/>
          <p:cNvPicPr/>
          <p:nvPr/>
        </p:nvPicPr>
        <p:blipFill>
          <a:blip r:embed="rId1"/>
          <a:stretch/>
        </p:blipFill>
        <p:spPr>
          <a:xfrm>
            <a:off x="1671480" y="0"/>
            <a:ext cx="5797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291320" y="6095880"/>
            <a:ext cx="683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ileo Galilei (1564-164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190600" y="2133720"/>
          <a:ext cx="4761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133720"/>
                    <a:ext cx="4761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AtHome\phys101\Lectures-F97\images\moon1.jpg"/>
          <p:cNvPicPr/>
          <p:nvPr/>
        </p:nvPicPr>
        <p:blipFill>
          <a:blip r:embed="rId1"/>
          <a:stretch/>
        </p:blipFill>
        <p:spPr>
          <a:xfrm>
            <a:off x="2440080" y="0"/>
            <a:ext cx="4260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5410080" y="1519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lileo notic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86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a telescope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types of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LEGION</dc:creator>
  <dc:description/>
  <dc:language>en-US</dc:language>
  <cp:lastModifiedBy>LEGION</cp:lastModifiedBy>
  <cp:lastPrinted>1998-08-31T16:49:54Z</cp:lastPrinted>
  <dcterms:modified xsi:type="dcterms:W3CDTF">2018-03-22T10:31:29Z</dcterms:modified>
  <cp:revision>216</cp:revision>
  <dc:subject/>
  <dc:title>PowerPoint Presentation  -  No Slide Title</dc:title>
</cp:coreProperties>
</file>